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ECF7-7A3A-4BC7-95A8-0626E538A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997B-6B59-4292-B735-045A0064F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4630-2E17-4FA3-BDB1-0BC1F232C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E206-2CBC-4856-A4BA-D1D0925E1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5C35-8200-4F2B-84ED-F108B61AC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12B0-970B-4B3F-891C-44720EEBA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C00E-B1B0-45A3-94ED-87C77A780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9F09-A485-47A0-845D-324C531AD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A956-EB9C-47A0-BB1E-19C6AA310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C772-E3AE-4B62-A3A0-13B546B2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60CE-9CDA-4EAA-8B13-04AEDD96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229D-9A5F-4532-ACC9-6DF43FD5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D7251-2691-457E-B692-E29FF046EB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 terms for B cell in Cell On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adly divided into immature and mature subs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enus term ‘B cell’ is the parent term for all types of B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sma cell considered a distinct cell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 cell 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Term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: CL:00002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me: B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f: "A type of lymphocyte whose defining characteristic is the expression of an immunoglobulin complex." [GOC:add, ISBN:0781735149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xact_synonym: "B lymphocyte" [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xact_synonym: "B-cell" [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xact_synonym: "B-lymphocyte" [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s_a: CL:0000542 ! lymphocy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lationship: develops_from CL:0000826 ! pro-B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4920" y="260280"/>
            <a:ext cx="6068880" cy="63691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 cell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ly pro-B cell and late pro-B cells, and pre-pro B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hip of pre B cell and transitional stage B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sing B cell sub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3T17:34:07Z</dcterms:created>
  <dc:creator>Alexander Diehl</dc:creator>
  <dc:description/>
  <dc:language>en-US</dc:language>
  <cp:lastModifiedBy>Alexander Diehl</cp:lastModifiedBy>
  <dcterms:modified xsi:type="dcterms:W3CDTF">2008-05-13T01:20:43Z</dcterms:modified>
  <cp:revision>11</cp:revision>
  <dc:subject/>
  <dc:title>The Cell Ontology</dc:title>
</cp:coreProperties>
</file>